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3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0ED8-0242-44C3-BEDC-2D00A501A56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126F-FF10-47F0-A144-35AC3DA2C51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A07-CE4F-4D90-81B3-F63F21BC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587-F614-430C-99AE-162D3E76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7AE98-0045-4F05-BE9F-12C8FF27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708D2-1898-4762-B275-3F4F8461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12620-3168-4D92-A8D4-22FADC6D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508EA-3504-46C2-8CED-2D5D2E1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5E4B9-B7AF-4A32-97F9-D74D4233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F0506-0F3F-4C0F-BFDB-125C8731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68076-C3F6-4117-8CFF-6B044809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8F48D-835D-41DF-8D0D-AE564C24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B47DC-F1B9-49FF-A56F-B9E1BFED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88519-2047-4733-B145-C483FE9E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44A-CC2D-4F18-B270-171BA500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FBA19-87AE-439A-9B8A-D65E8AB3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5A3A8-8508-407A-BC87-03BED364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87D48-1F5D-4966-B156-93A86D89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0B56D-A9FD-4AE6-8E5A-20B735C7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1D030-48D8-4A15-ABBD-5719E5B0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D323A-9B87-4533-A584-0902DA67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A3B16-60D8-41C8-898C-3BE12BC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E4C32-1380-44B2-B71A-8D1428E1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43C2B-9BE2-4B6E-AE38-9530CA2A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39856-DEEA-4CEC-BBFE-E6208CBD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2DD-1822-4877-BB0F-264BD02C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0C2CF-3325-488A-B492-1E36B6AB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D34E2-5AD7-40D7-94D5-D2B192B3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55A76-1C30-4703-93F5-A6B312EF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54CA4-905B-4148-8386-8B29D759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D18EF-AC28-43BE-B986-93164A73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D1735-A392-4FCC-99CA-B7E2A957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CBA80-D1F2-4539-A876-044FBBB4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8379E-FF66-4D18-94D4-1A69E94D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A5DB5-77D7-4D1E-AA24-91184A9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3B443-C284-48E3-95BC-F2E1067B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833C-D909-412B-ACBC-9C40AC42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B94A6-450A-44E7-9A17-2B7F5A5E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E2DAF-26A6-433D-9C48-000218E9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25C0E-4E59-416B-A610-E2685F6C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5DBC1-C0BA-480F-8342-CAC715A4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B6A56-4B47-442C-8D14-E447731C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B7716-1F25-48A0-8AE5-E911D9F3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D2847-CA80-4687-BB5E-BBECC8F0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02926-3AF8-4E10-842C-502F5157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4B177-95A2-470B-90F6-9E8CD8D3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77DFC-794B-48AA-AF7F-69DA2604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B4C2-817A-497B-8706-10CFC9F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917D9-D154-4D78-BD39-D2CACA0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BDDCF-1B12-4CBB-854D-976CAE5F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C993C-24A9-4259-9CB9-213D661B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9E476-3C3B-482B-86F5-5AE6929D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7F919-B6D2-4553-BFE2-88A84812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8F1AD-A824-4968-80F6-0FFC5DC1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92AB9-6C68-4516-A6D7-B711241E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8C1F9-90D0-436C-9062-5E8CF28A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F918D-4007-44D0-8D36-5E968C24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E3A47-37A2-4959-8109-A15256E9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7D7B-95B9-40B0-ACDD-BDA3DB15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07520-8C58-4A24-A1D2-9FF7FBA3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354FD-A95C-4D85-A25E-3B661A9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AED3E-B975-4DF6-BE93-BCBA721B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3BFAF-32E3-4C18-99B7-E97FE62A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F59E8-FA2A-40B4-8ED5-E2D1696D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0182C-241A-4F5D-AB06-8E317BE3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CB4E1-7738-4AFC-8D3E-B2B4D549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C54CB-E654-4965-9630-1AA87593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67257-399C-49F4-9699-0F9A9AD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34F1C-E4D2-484F-9B70-5C6FD73A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7848-0B62-426D-BB1C-CF01DC7C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8C03A-6C60-4BF8-9F40-A55EC3DA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4C248-BB2B-40CE-8A8D-A0690514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F8106-BEEE-443C-A56B-98E188D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FDF5D-D6B5-4772-9904-05649B1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2AA42-31B1-49A8-8193-57665707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93551-9326-46E5-A488-115DA267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3EF2C-A8B3-4E2B-AEBE-01242986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22B03-322B-417F-B770-AD417FAF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7E880-42A8-4D25-B34E-D3FB0854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E3ED-5493-4A65-A090-62947E8B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71C5-A4E9-413F-A66F-8D71F6A5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8A47-7901-44BC-A0D3-B92D29F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693-E8F7-4D43-B7A1-9591CB3E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5739-44B5-486E-90A0-82FCFBC2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10E1-265A-436A-BE32-8B4AE85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2C0A-5C18-4FD9-87DB-EE94C0DD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14B7-92F0-4BC4-87C0-BDD89868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5EC-4D94-4DAF-9F24-BFB88F11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9047-F282-4ECC-9651-3996DDD0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2780-3C99-42F2-9136-68FE22F6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BA6F-4289-4E2C-8696-BDFC31FB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50EA-EC28-418F-BE87-926B52BF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AE2C-DEC1-4DB8-B526-F02FB088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B81-44C1-4EFB-96D9-85EA64FF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BE339-47E9-46BD-B427-499AB065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D0F94-F01A-4BBD-95A0-6D9E728B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E7D0-E0E6-433E-A2C0-13DE8FE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421C-EA4A-4328-BF20-E32FD83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30117-F1FB-4645-94ED-D99CF240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6D66-A125-4EBC-8AD2-83D605EC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3A6F-D6D1-49C4-B201-5DA7DEDC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DE90-371C-4AA4-A9C3-FAA5FECA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CD68-D730-4615-921D-CDB4B0AC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F5C2-4FF8-48D3-8C3D-1791562F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0ED-974C-4787-8CA2-321B5E7B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DCE28-1933-447A-88CC-710AF7A7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800A-77C6-4A17-B0BC-0398A436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4FBB-298C-4F3D-B4E4-7CB8B663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55505-8D9A-4CB7-A7C3-9A15210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6B17-A902-4AC8-95C1-AC85381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E46A-5391-4A7E-ACFC-CEE00F7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281A-60DC-4E5D-B02A-5678F16B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9123-333C-4FC1-8B3B-462CE15F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CE87-9AF7-4BF1-802B-E2CBBAD6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2D346-A764-43DF-924A-15A30E94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D98-4FCE-4B06-BFB0-47B13B56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AD68B-7415-4885-AD85-D8440C17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F22E-61A4-400E-B97D-40D46A22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35CD-6932-4FE8-8534-1EA100E8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CFEA7-B29F-4C33-BA1C-6E459E65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5BA88-DB31-41B9-B9B6-71C24E61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DC47-4A1F-455E-A990-F5F75AC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A91E-32F9-4A07-BCA1-C39E4A6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01C5-C85D-480D-9462-16B606F0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624A4-96E7-4B36-8D99-D1F1A67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FF4B9-01C0-4F3E-9659-2642BA33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9B9-F95C-4BD9-9D88-06A24CBD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5AC44-D153-4703-B630-235B3471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3ECBF-FA51-494A-9E4C-CC233E53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87CF-EF69-4410-A0BE-BAE12BED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6B77-AFDA-4BED-A161-27092D64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06E3-8E9B-465F-97D9-4D9C30BA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F520A-36A7-4B90-9CDE-EBB64ECD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820D6-014E-4E19-AA92-66DB7B1B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7D887-0AC4-4F5C-9341-B44A7B6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52685-6601-4377-A070-C08860D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A3F8-1AE0-471F-832F-8994FB9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36F-5AC5-4815-8DE5-8532C86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3A3BF-645E-4EDA-820C-30BC09F3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3888A-FDC5-42BF-BC50-A1E89EEA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0FA3E-A153-4021-A5B3-72C7FE8F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1B14F-C5A6-4117-B6C3-52375399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596F0-88BA-4C35-8542-895525B2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50E9-19E8-4357-8B4B-7F86FF2B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A059E-134C-432F-881C-AA2AC52B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625B9-3B1E-4496-B1C1-1CFC4E8C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113B0-BF1F-4429-9707-CB68296A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B6D43-76F5-4346-AD59-C3EB688A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0B6-8DA1-4549-B2D3-CF0C6EC9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C694-991C-41BE-B23A-7BA8085B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498E6-F8E7-4056-B785-205A57CD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69AC1-A969-4B44-B543-532720AB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858E3-856E-4C0F-8E19-8FC489EB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F35A3-DC11-4232-8927-8013FA4F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D7E3C-C65E-4537-8FFD-4B7E0A0D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08279-B313-4A14-923D-641432D3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96397-F8FF-4B6C-8D41-54415DD5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84A83-E2AE-44DA-AB39-32750677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491B9-F5BD-49C2-978D-0612487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E69-A6F3-4BEE-AA93-80EEED6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900C-4D91-482A-8868-A9A7D686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BAA0D-2BB6-4141-9583-821653C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D155-15A5-47AF-9615-0E14542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6BBE-57A4-428B-B70A-79075ADC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37C3A-F6F4-466A-B076-7F442582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59CC4-A324-4712-A96E-66A81BF5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D707D-2E89-4D62-BA0C-6D3762A5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88A3C-24E3-484E-A83E-BE3D2750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E907A-C776-401F-91BC-CA45AB00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0AE88-06ED-4E98-A283-C757FA91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upload.wikimedia.org/wikipedia/de/a/a2/Coat_of_arms_of_Mozambique.pn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rojecto Suporte Institucional ao MINAG implementada pela G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7241-27FB-4A04-9156-B74F0FC1F7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4CAB-E55D-4B70-9DF3-EE5571FBC2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B39C-E128-47FE-AF89-7D495BEB33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B7BE-94A6-42F9-8885-DAC9D9A0AE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717E-8705-4DA7-90DF-85964595F9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834B-0D44-4B50-902B-6C13C540A1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6177-1C9C-49D7-9974-9FEE28CCF5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9842-4E61-4A2F-A0C0-8BB02027CC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rojecto Suporte Institucional ao MINAG </a:t>
            </a:r>
            <a:br>
              <a:rPr sz="1100"/>
            </a:br>
            <a:r>
              <a:rPr b="0" lang="de-DE" sz="1000" spc="-1" strike="noStrike">
                <a:solidFill>
                  <a:srgbClr val="898989"/>
                </a:solidFill>
                <a:latin typeface="Calibri"/>
              </a:rPr>
              <a:t>implementada pela GF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81E6-4BEA-467E-98F6-C1FCF40331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C9E3-CD6F-41A9-A1D2-D56CEDB657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5439-D259-4B33-A73D-A13CC4F51D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Datei:Coat of arms of Mozambiqu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4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EF4-B76E-432B-8DAC-C4D1870A0F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9089-E251-41F5-AAFF-B78220E59A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atei:Coat of arms of Mozambique.png"/>
          <p:cNvPicPr/>
          <p:nvPr/>
        </p:nvPicPr>
        <p:blipFill>
          <a:blip r:embed="rId2"/>
          <a:stretch/>
        </p:blipFill>
        <p:spPr>
          <a:xfrm>
            <a:off x="1055520" y="142920"/>
            <a:ext cx="916200" cy="86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3"/>
          <a:stretch/>
        </p:blipFill>
        <p:spPr>
          <a:xfrm>
            <a:off x="6769080" y="228600"/>
            <a:ext cx="1130400" cy="7700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0" y="1066680"/>
            <a:ext cx="3200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pública de Moçamb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Ministério da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715000" y="1125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issão da União Europeia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5D7B-B57A-470A-A91E-3C6085799A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feld 3"/>
          <p:cNvSpPr/>
          <p:nvPr/>
        </p:nvSpPr>
        <p:spPr>
          <a:xfrm>
            <a:off x="1042920" y="2060640"/>
            <a:ext cx="73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Calibri"/>
              </a:rPr>
              <a:t>Treino para Executivos no MINA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Porque e para qu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feld 4"/>
          <p:cNvSpPr/>
          <p:nvPr/>
        </p:nvSpPr>
        <p:spPr>
          <a:xfrm>
            <a:off x="5869800" y="1844640"/>
            <a:ext cx="18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Lider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Visão dos li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Gleichschenkliges Dreieck 8"/>
          <p:cNvSpPr/>
          <p:nvPr/>
        </p:nvSpPr>
        <p:spPr>
          <a:xfrm>
            <a:off x="755640" y="2205000"/>
            <a:ext cx="496872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Centro do Desempe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hteck 9"/>
          <p:cNvSpPr/>
          <p:nvPr/>
        </p:nvSpPr>
        <p:spPr>
          <a:xfrm>
            <a:off x="826920" y="5373720"/>
            <a:ext cx="4897440" cy="79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Análises do Sistema, Monitoria, Auditoria, Trabalho em Grupo</a:t>
            </a:r>
            <a:r>
              <a:rPr b="1" lang="pt-PT" sz="1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pt-PT" sz="1800" spc="-1" strike="noStrike">
                <a:solidFill>
                  <a:srgbClr val="ff0000"/>
                </a:solidFill>
                <a:latin typeface="Calibri"/>
              </a:rPr>
              <a:t>Círculos de Qualidade em cada ent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feil nach links und rechts 10"/>
          <p:cNvSpPr/>
          <p:nvPr/>
        </p:nvSpPr>
        <p:spPr>
          <a:xfrm>
            <a:off x="2556000" y="3716280"/>
            <a:ext cx="1216080" cy="9367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bgerundetes Rechteck 12"/>
          <p:cNvSpPr/>
          <p:nvPr/>
        </p:nvSpPr>
        <p:spPr>
          <a:xfrm>
            <a:off x="826920" y="4292640"/>
            <a:ext cx="1657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Motivar e promover os colabo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bgerundetes Rechteck 15"/>
          <p:cNvSpPr/>
          <p:nvPr/>
        </p:nvSpPr>
        <p:spPr>
          <a:xfrm>
            <a:off x="3851280" y="3213000"/>
            <a:ext cx="18730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Comportamento dos li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bgerundetes Rechteck 16"/>
          <p:cNvSpPr/>
          <p:nvPr/>
        </p:nvSpPr>
        <p:spPr>
          <a:xfrm>
            <a:off x="3851280" y="4292640"/>
            <a:ext cx="18003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Optimar proce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bgerundetes Rechteck 17"/>
          <p:cNvSpPr/>
          <p:nvPr/>
        </p:nvSpPr>
        <p:spPr>
          <a:xfrm>
            <a:off x="826920" y="3213000"/>
            <a:ext cx="15843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Auto org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feld 18"/>
          <p:cNvSpPr/>
          <p:nvPr/>
        </p:nvSpPr>
        <p:spPr>
          <a:xfrm>
            <a:off x="5867280" y="2781360"/>
            <a:ext cx="311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Operacionalização /Gest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da visão pelos li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Organizar treino de lideranç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em todos os ní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Formações especificas e ge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para funcioná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nálises das 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nálises dos proce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feld 19"/>
          <p:cNvSpPr/>
          <p:nvPr/>
        </p:nvSpPr>
        <p:spPr>
          <a:xfrm>
            <a:off x="5939640" y="52293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Ferram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feld 14"/>
          <p:cNvSpPr/>
          <p:nvPr/>
        </p:nvSpPr>
        <p:spPr>
          <a:xfrm>
            <a:off x="539640" y="1484280"/>
            <a:ext cx="51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Factores na Gestão dos Recursos Humanos e do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4f81bd"/>
                </a:solidFill>
                <a:latin typeface="Calibri"/>
              </a:rPr>
              <a:t>Obrigada pela sua atençã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Grafik 4" descr="wie-geschmiert_Jupiter_16ac2e7641.jpg"/>
          <p:cNvPicPr/>
          <p:nvPr/>
        </p:nvPicPr>
        <p:blipFill>
          <a:blip r:embed="rId1"/>
          <a:stretch/>
        </p:blipFill>
        <p:spPr>
          <a:xfrm>
            <a:off x="3635280" y="3645000"/>
            <a:ext cx="18543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3" descr=""/>
          <p:cNvPicPr/>
          <p:nvPr/>
        </p:nvPicPr>
        <p:blipFill>
          <a:blip r:embed="rId1"/>
          <a:stretch/>
        </p:blipFill>
        <p:spPr>
          <a:xfrm rot="799200">
            <a:off x="2785680" y="1687320"/>
            <a:ext cx="4772160" cy="44290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"/>
          <p:cNvPicPr/>
          <p:nvPr/>
        </p:nvPicPr>
        <p:blipFill>
          <a:blip r:embed="rId2"/>
          <a:stretch/>
        </p:blipFill>
        <p:spPr>
          <a:xfrm rot="20477400">
            <a:off x="1403280" y="2491920"/>
            <a:ext cx="1790640" cy="1981440"/>
          </a:xfrm>
          <a:prstGeom prst="rect">
            <a:avLst/>
          </a:prstGeom>
          <a:ln w="0">
            <a:noFill/>
          </a:ln>
        </p:spPr>
      </p:pic>
      <p:sp>
        <p:nvSpPr>
          <p:cNvPr id="633" name="Textfeld 5"/>
          <p:cNvSpPr/>
          <p:nvPr/>
        </p:nvSpPr>
        <p:spPr>
          <a:xfrm>
            <a:off x="1987560" y="1413000"/>
            <a:ext cx="58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Contexto: Reforma na Administração Pu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 rot="20973000">
            <a:off x="1681200" y="2163600"/>
            <a:ext cx="2962080" cy="25434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 rot="840000">
            <a:off x="4671720" y="2004840"/>
            <a:ext cx="2343240" cy="3495960"/>
          </a:xfrm>
          <a:prstGeom prst="rect">
            <a:avLst/>
          </a:prstGeom>
          <a:ln w="0">
            <a:noFill/>
          </a:ln>
        </p:spPr>
      </p:pic>
      <p:sp>
        <p:nvSpPr>
          <p:cNvPr id="636" name="Picture 5"/>
          <p:cNvSpPr/>
          <p:nvPr/>
        </p:nvSpPr>
        <p:spPr>
          <a:xfrm rot="20980200">
            <a:off x="439200" y="3190680"/>
            <a:ext cx="3257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4" descr=""/>
          <p:cNvPicPr/>
          <p:nvPr/>
        </p:nvPicPr>
        <p:blipFill>
          <a:blip r:embed="rId3"/>
          <a:stretch/>
        </p:blipFill>
        <p:spPr>
          <a:xfrm rot="512400">
            <a:off x="5178600" y="3403080"/>
            <a:ext cx="3762360" cy="3009960"/>
          </a:xfrm>
          <a:prstGeom prst="rect">
            <a:avLst/>
          </a:prstGeom>
          <a:ln w="0">
            <a:noFill/>
          </a:ln>
        </p:spPr>
      </p:pic>
      <p:sp>
        <p:nvSpPr>
          <p:cNvPr id="638" name="Rechteck 12"/>
          <p:cNvSpPr/>
          <p:nvPr/>
        </p:nvSpPr>
        <p:spPr>
          <a:xfrm>
            <a:off x="2124000" y="260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feld 7"/>
          <p:cNvSpPr/>
          <p:nvPr/>
        </p:nvSpPr>
        <p:spPr>
          <a:xfrm>
            <a:off x="830520" y="148428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Os clientes estão insatisfeitos: Pressão da Sociedade Civ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4"/>
          <a:stretch/>
        </p:blipFill>
        <p:spPr>
          <a:xfrm rot="20939400">
            <a:off x="-25200" y="2882520"/>
            <a:ext cx="3562560" cy="27529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"/>
          <p:cNvPicPr/>
          <p:nvPr/>
        </p:nvPicPr>
        <p:blipFill>
          <a:blip r:embed="rId5"/>
          <a:stretch/>
        </p:blipFill>
        <p:spPr>
          <a:xfrm>
            <a:off x="2124000" y="4221000"/>
            <a:ext cx="38577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229600" cy="3878280"/>
          </a:xfrm>
          <a:prstGeom prst="rect">
            <a:avLst/>
          </a:prstGeom>
          <a:ln w="0">
            <a:noFill/>
          </a:ln>
        </p:spPr>
      </p:pic>
      <p:sp>
        <p:nvSpPr>
          <p:cNvPr id="644" name="Rechteck 3"/>
          <p:cNvSpPr/>
          <p:nvPr/>
        </p:nvSpPr>
        <p:spPr>
          <a:xfrm>
            <a:off x="900000" y="1557360"/>
            <a:ext cx="7632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Introdução de </a:t>
            </a:r>
            <a:r>
              <a:rPr b="1" i="1" lang="pt-PT" sz="2400" spc="-1" strike="noStrike">
                <a:solidFill>
                  <a:srgbClr val="ff0000"/>
                </a:solidFill>
                <a:latin typeface="Calibri"/>
              </a:rPr>
              <a:t>„Result oriented managemen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pt-PT" sz="1800" spc="-1" strike="noStrike">
                <a:solidFill>
                  <a:srgbClr val="ff0000"/>
                </a:solidFill>
                <a:latin typeface="Calibri"/>
              </a:rPr>
              <a:t>Gestão orientada ao resultado </a:t>
            </a:r>
            <a:r>
              <a:rPr b="1" lang="pt-PT" sz="1800" spc="-1" strike="noStrike">
                <a:solidFill>
                  <a:srgbClr val="ff0000"/>
                </a:solidFill>
                <a:latin typeface="Calibri"/>
              </a:rPr>
              <a:t>desde o ano 2010 na administração publica de Moçamb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348000" cy="45907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3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22720" cy="4525920"/>
          </a:xfrm>
          <a:prstGeom prst="rect">
            <a:avLst/>
          </a:prstGeom>
          <a:ln w="0">
            <a:noFill/>
          </a:ln>
        </p:spPr>
      </p:pic>
      <p:sp>
        <p:nvSpPr>
          <p:cNvPr id="648" name="Textfeld 11"/>
          <p:cNvSpPr/>
          <p:nvPr/>
        </p:nvSpPr>
        <p:spPr>
          <a:xfrm>
            <a:off x="2348280" y="1413000"/>
            <a:ext cx="24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O que é avaliado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95640" cy="4658040"/>
          </a:xfrm>
          <a:prstGeom prst="rect">
            <a:avLst/>
          </a:prstGeom>
          <a:ln w="0">
            <a:noFill/>
          </a:ln>
        </p:spPr>
      </p:pic>
      <p:sp>
        <p:nvSpPr>
          <p:cNvPr id="650" name="Textfeld 3"/>
          <p:cNvSpPr/>
          <p:nvPr/>
        </p:nvSpPr>
        <p:spPr>
          <a:xfrm>
            <a:off x="188280" y="3141720"/>
            <a:ext cx="270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Quem é avaliado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primeira f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468000" y="1412640"/>
            <a:ext cx="8280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Mas:  O produto é resultado de muitos passos – controle-o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Diagramm 4" descr=""/>
          <p:cNvPicPr/>
          <p:nvPr/>
        </p:nvPicPr>
        <p:blipFill>
          <a:blip r:embed="rId1"/>
          <a:stretch/>
        </p:blipFill>
        <p:spPr>
          <a:xfrm>
            <a:off x="-6480" y="2114640"/>
            <a:ext cx="9156960" cy="4305240"/>
          </a:xfrm>
          <a:prstGeom prst="rect">
            <a:avLst/>
          </a:prstGeom>
          <a:ln w="0">
            <a:noFill/>
          </a:ln>
        </p:spPr>
      </p:pic>
      <p:pic>
        <p:nvPicPr>
          <p:cNvPr id="654" name="Grafik 6" descr="grandma.jpg"/>
          <p:cNvPicPr/>
          <p:nvPr/>
        </p:nvPicPr>
        <p:blipFill>
          <a:blip r:embed="rId2"/>
          <a:stretch/>
        </p:blipFill>
        <p:spPr>
          <a:xfrm>
            <a:off x="6732720" y="2205000"/>
            <a:ext cx="1366560" cy="1079640"/>
          </a:xfrm>
          <a:prstGeom prst="rect">
            <a:avLst/>
          </a:prstGeom>
          <a:ln w="0">
            <a:noFill/>
          </a:ln>
        </p:spPr>
      </p:pic>
      <p:pic>
        <p:nvPicPr>
          <p:cNvPr id="655" name="Grafik 5" descr="fröhliches gesicht junge.jpg"/>
          <p:cNvPicPr/>
          <p:nvPr/>
        </p:nvPicPr>
        <p:blipFill>
          <a:blip r:embed="rId3"/>
          <a:stretch/>
        </p:blipFill>
        <p:spPr>
          <a:xfrm>
            <a:off x="1187280" y="2349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56" name="Grafik 7" descr="ernte früchte.bmp"/>
          <p:cNvPicPr/>
          <p:nvPr/>
        </p:nvPicPr>
        <p:blipFill>
          <a:blip r:embed="rId4"/>
          <a:stretch/>
        </p:blipFill>
        <p:spPr>
          <a:xfrm>
            <a:off x="826920" y="3860640"/>
            <a:ext cx="1190880" cy="847800"/>
          </a:xfrm>
          <a:prstGeom prst="rect">
            <a:avLst/>
          </a:prstGeom>
          <a:ln w="0">
            <a:noFill/>
          </a:ln>
        </p:spPr>
      </p:pic>
      <p:pic>
        <p:nvPicPr>
          <p:cNvPr id="657" name="Grafik 8" descr="baumwoll ernte.bmp"/>
          <p:cNvPicPr/>
          <p:nvPr/>
        </p:nvPicPr>
        <p:blipFill>
          <a:blip r:embed="rId5"/>
          <a:stretch/>
        </p:blipFill>
        <p:spPr>
          <a:xfrm>
            <a:off x="7236000" y="414972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658" name="Grafik 9" descr="weizen.bmp"/>
          <p:cNvPicPr/>
          <p:nvPr/>
        </p:nvPicPr>
        <p:blipFill>
          <a:blip r:embed="rId6"/>
          <a:stretch/>
        </p:blipFill>
        <p:spPr>
          <a:xfrm>
            <a:off x="1187280" y="5229360"/>
            <a:ext cx="1171800" cy="780840"/>
          </a:xfrm>
          <a:prstGeom prst="rect">
            <a:avLst/>
          </a:prstGeom>
          <a:ln w="0">
            <a:noFill/>
          </a:ln>
        </p:spPr>
      </p:pic>
      <p:pic>
        <p:nvPicPr>
          <p:cNvPr id="659" name="Grafik 10" descr="händekreis.jpg"/>
          <p:cNvPicPr/>
          <p:nvPr/>
        </p:nvPicPr>
        <p:blipFill>
          <a:blip r:embed="rId7"/>
          <a:stretch/>
        </p:blipFill>
        <p:spPr>
          <a:xfrm>
            <a:off x="3924360" y="3860640"/>
            <a:ext cx="1617480" cy="10796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Diagramm 11" descr=""/>
          <p:cNvPicPr/>
          <p:nvPr/>
        </p:nvPicPr>
        <p:blipFill>
          <a:blip r:embed="rId1"/>
          <a:stretch/>
        </p:blipFill>
        <p:spPr>
          <a:xfrm>
            <a:off x="5273640" y="1262160"/>
            <a:ext cx="3705120" cy="5199120"/>
          </a:xfrm>
          <a:prstGeom prst="rect">
            <a:avLst/>
          </a:prstGeom>
          <a:ln w="0">
            <a:noFill/>
          </a:ln>
        </p:spPr>
      </p:pic>
      <p:sp>
        <p:nvSpPr>
          <p:cNvPr id="662" name="Textfeld 12"/>
          <p:cNvSpPr/>
          <p:nvPr/>
        </p:nvSpPr>
        <p:spPr>
          <a:xfrm>
            <a:off x="4859280" y="234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Nível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feld 13"/>
          <p:cNvSpPr/>
          <p:nvPr/>
        </p:nvSpPr>
        <p:spPr>
          <a:xfrm>
            <a:off x="4579560" y="371628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Nível provi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feld 14"/>
          <p:cNvSpPr/>
          <p:nvPr/>
        </p:nvSpPr>
        <p:spPr>
          <a:xfrm>
            <a:off x="4073040" y="47242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Nível distr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afik 15" descr="an-einem-Strang-ziehen2.jpg"/>
          <p:cNvPicPr/>
          <p:nvPr/>
        </p:nvPicPr>
        <p:blipFill>
          <a:blip r:embed="rId2"/>
          <a:stretch/>
        </p:blipFill>
        <p:spPr>
          <a:xfrm>
            <a:off x="1042920" y="2492280"/>
            <a:ext cx="2729160" cy="14544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2" descr="C:\Dokumente und Einstellungen\bboetius\Lokale Einstellungen\Temporary Internet Files\Content.IE5\KNU1KRAZ\MM900185588[1].gif"/>
          <p:cNvPicPr/>
          <p:nvPr/>
        </p:nvPicPr>
        <p:blipFill>
          <a:blip r:embed="rId3"/>
          <a:stretch/>
        </p:blipFill>
        <p:spPr>
          <a:xfrm>
            <a:off x="3780000" y="263700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667" name="Grafik 19" descr="gegeneinander.bmp"/>
          <p:cNvPicPr/>
          <p:nvPr/>
        </p:nvPicPr>
        <p:blipFill>
          <a:blip r:embed="rId4"/>
          <a:stretch/>
        </p:blipFill>
        <p:spPr>
          <a:xfrm>
            <a:off x="1403280" y="4508640"/>
            <a:ext cx="2103480" cy="1157040"/>
          </a:xfrm>
          <a:prstGeom prst="rect">
            <a:avLst/>
          </a:prstGeom>
          <a:ln w="0">
            <a:noFill/>
          </a:ln>
        </p:spPr>
      </p:pic>
      <p:sp>
        <p:nvSpPr>
          <p:cNvPr id="668" name="Gerade Verbindung 26"/>
          <p:cNvSpPr/>
          <p:nvPr/>
        </p:nvSpPr>
        <p:spPr>
          <a:xfrm flipV="1">
            <a:off x="900000" y="4724280"/>
            <a:ext cx="309564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Gerade Verbindung 27"/>
          <p:cNvSpPr/>
          <p:nvPr/>
        </p:nvSpPr>
        <p:spPr>
          <a:xfrm>
            <a:off x="1476360" y="4581360"/>
            <a:ext cx="2374920" cy="115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feld 23"/>
          <p:cNvSpPr/>
          <p:nvPr/>
        </p:nvSpPr>
        <p:spPr>
          <a:xfrm>
            <a:off x="428760" y="1413000"/>
            <a:ext cx="89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tornar a comunicação um instrumento para a colaboração efectiv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Calibri"/>
              </a:rPr>
              <a:t>servir os clientes internos e finalmente o cliente extern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Gerade Verbindung 18"/>
          <p:cNvSpPr/>
          <p:nvPr/>
        </p:nvSpPr>
        <p:spPr>
          <a:xfrm>
            <a:off x="7380360" y="2205000"/>
            <a:ext cx="0" cy="338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Gerade Verbindung 21"/>
          <p:cNvSpPr/>
          <p:nvPr/>
        </p:nvSpPr>
        <p:spPr>
          <a:xfrm>
            <a:off x="4427640" y="3357720"/>
            <a:ext cx="432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610920" y="2133360"/>
            <a:ext cx="3529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Regras comuns: Estrutura de fiche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elefone, Skyp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il, car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ewsl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Projecto Suporte Institucional ao MINAG 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implementada pela GF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hteck 6"/>
          <p:cNvSpPr/>
          <p:nvPr/>
        </p:nvSpPr>
        <p:spPr>
          <a:xfrm>
            <a:off x="1491840" y="1484280"/>
            <a:ext cx="63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Calibri"/>
              </a:rPr>
              <a:t>Sistema de Gestão de Conhec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feld 7"/>
          <p:cNvSpPr/>
          <p:nvPr/>
        </p:nvSpPr>
        <p:spPr>
          <a:xfrm>
            <a:off x="4859280" y="2276640"/>
            <a:ext cx="331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ncontros regulares documentados horizontalmente, vertic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min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Brownbag-Semin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Vis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nvív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7:26:37Z</dcterms:created>
  <dc:creator>bboetius</dc:creator>
  <dc:description/>
  <dc:language>en-US</dc:language>
  <cp:lastModifiedBy>bboetius</cp:lastModifiedBy>
  <dcterms:modified xsi:type="dcterms:W3CDTF">2012-02-01T14:11:36Z</dcterms:modified>
  <cp:revision>249</cp:revision>
  <dc:subject/>
  <dc:title>Folie 1</dc:title>
</cp:coreProperties>
</file>